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E2A4-5682-45E2-890B-99AF4B96D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5002-18A9-405A-8A1B-A57BFFC5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8909-865D-4263-A492-1C685588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4E4A-DCC6-4E17-B7A0-CB691425C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1E5C-2FB7-42A3-B287-D7196DB4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595E-A94F-4441-940A-771DB522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0E55-6F06-4806-87F0-ACBF6C5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63EF-FFA3-4927-B49C-E3A73ACF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D9E4-385C-4F4F-9A33-A3A53B3D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1249-E020-49FE-8D8A-B4F341B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3F8B-D828-4A58-9D23-17B5831D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7B25-53FC-4DCE-AEE6-1D008349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267080" y="6172200"/>
            <a:ext cx="5670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05720" y="6324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FA83-92F8-49CC-A343-938AF198F6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95680" y="6095880"/>
            <a:ext cx="567000" cy="57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9080" y="696600"/>
            <a:ext cx="7808760" cy="29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228240" y="6325920"/>
            <a:ext cx="21337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 – EEE3017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. Verrinder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I2C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Opencollecto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nter Integrated Circuit Bu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protocol was developed by Philips and is a registered trade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ometimes referred to as a “2 wire interfa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ypically used to connect low speed peripherals to embedded systems, motherboard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A754-5F3C-49D8-893B-2014911578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T16 has a dedicated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sends and receiv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the master or sl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eed is 100k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ontr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7480" y="259236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B277-800C-4F48-8A6C-D0F3296AE7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0320" y="1600200"/>
            <a:ext cx="42033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4F4E-9362-411D-9550-7D690E64B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GT16’s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Modu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71680" y="1600200"/>
            <a:ext cx="620064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3520" y="1981080"/>
            <a:ext cx="3809880" cy="1752840"/>
            <a:chOff x="533520" y="1981080"/>
            <a:chExt cx="3809880" cy="175284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209680"/>
              <a:ext cx="3352680" cy="1524240"/>
              <a:chOff x="990720" y="2209680"/>
              <a:chExt cx="3352680" cy="1524240"/>
            </a:xfrm>
          </p:grpSpPr>
          <p:sp>
            <p:nvSpPr>
              <p:cNvPr id="110" name=""/>
              <p:cNvSpPr/>
              <p:nvPr/>
            </p:nvSpPr>
            <p:spPr>
              <a:xfrm>
                <a:off x="4114800" y="3429000"/>
                <a:ext cx="228600" cy="304920"/>
              </a:xfrm>
              <a:prstGeom prst="rect">
                <a:avLst/>
              </a:prstGeom>
              <a:noFill/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990720" y="2209680"/>
                <a:ext cx="3124080" cy="137160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33520" y="1981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357C-BDD9-45AA-B346-1B6184E165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only uses two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A –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 – Seri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capacitance limits the speed of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mits the speed of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to below 400k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167440" cy="14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9B57-F58B-4EEA-AEBB-2638AB050A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Multiple 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tocol allows many slaves to be connected to one master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evice has a 7-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dress is often set by tying pins on the actual device HIGH or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address values are built into the device, based on what type of device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 sample schematic with one master (a microcontroller) and three slave nodes (an ADC, a DAC, and another microcontroller) with pull-up resistors R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523880"/>
            <a:ext cx="5867640" cy="20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63E2-AC21-4B8F-BBEE-4801C056A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Transfer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I, the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master supplies the clock on the SC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DA line can only change when the SCL line is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SCL line is LOW the next bit of data is clocked onto the SD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one for each bit in turn starting with the MS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F406-E6F0-442A-8FC0-8F387C283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Start and Stop bit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ignal the start of data transmission the SDA line changes from HIGH to LOW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ar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dicate the end of data transmission the SDA line brought from LOW to HIGH while the SCL line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stop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t from the Start and Stop condition, the SDA line must never change state while SCL is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2AAF-246B-427B-8E20-9F511395A7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Data Acknowledgemen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more complex than 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ter device must be able to check whether a device is present and respo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a byte of data has been transmitted , the receiving device pulls the SDA line LOW for one bi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known as the acknowledge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can now check if the slave received its data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6D53-C7B5-4E67-AFBD-945EAC5E67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Timing Diagram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03400" y="1600200"/>
            <a:ext cx="51372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FFC1-F7DF-4415-9803-E802A5C100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Physical Connection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devices have either open collector or open drain outputs on their SDA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e is pulled up by an external res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at devices can not damage each other by asserting different log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A simplified schematic of the externalized (open) collector of an integrated circuit (IC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4A38-44DB-410B-B1D1-AE5A171CEA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en-US" sz="44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 Device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Cxx EEPROM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4 indicates that is an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device and the xx represents the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B942-8388-4115-B1B9-1784F166D1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09:44:31Z</dcterms:created>
  <dc:creator>Robyn Verrinder</dc:creator>
  <dc:description/>
  <dc:language>en-US</dc:language>
  <cp:lastModifiedBy>Robyn Verrinder</cp:lastModifiedBy>
  <dcterms:modified xsi:type="dcterms:W3CDTF">2008-05-07T12:15:14Z</dcterms:modified>
  <cp:revision>16</cp:revision>
  <dc:subject/>
  <dc:title>Inter Integrated Circuit Bus</dc:title>
</cp:coreProperties>
</file>